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0.png" ContentType="image/png"/>
  <Override PartName="/ppt/media/image11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F6D6C-7583-48B1-9B85-CA52CDFA8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C1A73-22AA-44FA-9BEC-FC3A6FD17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BA21D-B462-4AA6-B66F-78D876D9E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5E3B3-358F-4952-A23D-01D34E127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26E93-C1FD-4667-99F7-71D4FC4B9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E20C7-4775-441B-8EA9-71741A542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3659A-3545-4234-96A6-26423341C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88FA7-8083-4C4A-84FC-A61074683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A67DB-E05C-4806-A98E-0CECED002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CF0D6-24C0-45F8-A45D-071480273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C5113-6F81-4476-AF8E-8B40DF831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20AD0-CC3A-401C-B16D-B1B06DF15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9EFA1-B4C2-4AFE-A658-072C5EC493E7}" type="slidenum">
              <a:rPr b="0" lang="ko-KR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477480" y="5964120"/>
            <a:ext cx="258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ioneers of Science &amp; Technology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"/>
          <p:cNvSpPr/>
          <p:nvPr/>
        </p:nvSpPr>
        <p:spPr>
          <a:xfrm>
            <a:off x="6707160" y="6019920"/>
            <a:ext cx="218124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"/>
          <p:cNvSpPr/>
          <p:nvPr/>
        </p:nvSpPr>
        <p:spPr>
          <a:xfrm>
            <a:off x="88920" y="4038480"/>
            <a:ext cx="8974080" cy="1862280"/>
          </a:xfrm>
          <a:prstGeom prst="rect">
            <a:avLst/>
          </a:prstGeom>
          <a:solidFill>
            <a:srgbClr val="2f43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"/>
          <p:cNvSpPr/>
          <p:nvPr/>
        </p:nvSpPr>
        <p:spPr>
          <a:xfrm>
            <a:off x="88920" y="5661000"/>
            <a:ext cx="8974080" cy="241200"/>
          </a:xfrm>
          <a:prstGeom prst="rect">
            <a:avLst/>
          </a:prstGeom>
          <a:solidFill>
            <a:srgbClr val="427a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"/>
          <p:cNvSpPr/>
          <p:nvPr/>
        </p:nvSpPr>
        <p:spPr>
          <a:xfrm>
            <a:off x="88920" y="4354560"/>
            <a:ext cx="8974080" cy="12985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"/>
          <p:cNvSpPr/>
          <p:nvPr/>
        </p:nvSpPr>
        <p:spPr>
          <a:xfrm>
            <a:off x="3807000" y="4527720"/>
            <a:ext cx="1063440" cy="9792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"/>
          <p:cNvSpPr/>
          <p:nvPr/>
        </p:nvSpPr>
        <p:spPr>
          <a:xfrm>
            <a:off x="5141880" y="4729320"/>
            <a:ext cx="623880" cy="57456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"/>
          <p:cNvSpPr/>
          <p:nvPr/>
        </p:nvSpPr>
        <p:spPr>
          <a:xfrm>
            <a:off x="6037200" y="4527720"/>
            <a:ext cx="1063800" cy="97920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"/>
          <p:cNvSpPr/>
          <p:nvPr/>
        </p:nvSpPr>
        <p:spPr>
          <a:xfrm>
            <a:off x="7153200" y="4527720"/>
            <a:ext cx="1063800" cy="97920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Welcome to Imhotep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"/>
          <p:cNvSpPr/>
          <p:nvPr/>
        </p:nvSpPr>
        <p:spPr>
          <a:xfrm>
            <a:off x="395280" y="333360"/>
            <a:ext cx="73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Architecture - Actions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258920" y="1413000"/>
            <a:ext cx="62388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Weak Poin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"/>
          <p:cNvSpPr/>
          <p:nvPr/>
        </p:nvSpPr>
        <p:spPr>
          <a:xfrm>
            <a:off x="755640" y="1557360"/>
            <a:ext cx="77058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Rendering Speed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Memory Problem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Lazy GUI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Script Suppor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Animation Suppor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Future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mainfrm"/>
          <p:cNvSpPr/>
          <p:nvPr/>
        </p:nvSpPr>
        <p:spPr>
          <a:xfrm>
            <a:off x="704880" y="1681200"/>
            <a:ext cx="547560" cy="957240"/>
          </a:xfrm>
          <a:prstGeom prst="pie">
            <a:avLst/>
          </a:prstGeom>
          <a:noFill/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computr4"/>
          <p:cNvSpPr/>
          <p:nvPr/>
        </p:nvSpPr>
        <p:spPr>
          <a:xfrm>
            <a:off x="2627280" y="1628640"/>
            <a:ext cx="695520" cy="1062000"/>
          </a:xfrm>
          <a:prstGeom prst="pie">
            <a:avLst/>
          </a:prstGeom>
          <a:noFill/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computr2"/>
          <p:cNvSpPr/>
          <p:nvPr/>
        </p:nvSpPr>
        <p:spPr>
          <a:xfrm>
            <a:off x="7380360" y="1916280"/>
            <a:ext cx="901800" cy="903240"/>
          </a:xfrm>
          <a:prstGeom prst="pie">
            <a:avLst/>
          </a:prstGeom>
          <a:noFill/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116" name=""/>
          <p:cNvCxnSpPr>
            <a:stCxn id="113" idx="8"/>
            <a:endCxn id="114" idx="4"/>
          </p:cNvCxnSpPr>
          <p:nvPr/>
        </p:nvCxnSpPr>
        <p:spPr>
          <a:xfrm>
            <a:off x="1266480" y="2160360"/>
            <a:ext cx="1346400" cy="1080"/>
          </a:xfrm>
          <a:prstGeom prst="straightConnector1">
            <a:avLst/>
          </a:prstGeom>
          <a:ln cap="rnd" w="22320">
            <a:solidFill>
              <a:srgbClr val="00008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</p:cxn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3059280" y="3645000"/>
            <a:ext cx="4173480" cy="24192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5580000" y="2276640"/>
            <a:ext cx="0" cy="1296720"/>
          </a:xfrm>
          <a:prstGeom prst="line">
            <a:avLst/>
          </a:prstGeom>
          <a:ln cap="rnd" w="22320">
            <a:solidFill>
              <a:srgbClr val="00008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119" name=""/>
          <p:cNvCxnSpPr>
            <a:stCxn id="114" idx="5"/>
            <a:endCxn id="115" idx="10"/>
          </p:cNvCxnSpPr>
          <p:nvPr/>
        </p:nvCxnSpPr>
        <p:spPr>
          <a:xfrm flipV="1">
            <a:off x="3336840" y="2158200"/>
            <a:ext cx="4207680" cy="2520"/>
          </a:xfrm>
          <a:prstGeom prst="straightConnector1">
            <a:avLst/>
          </a:prstGeom>
          <a:ln cap="rnd" w="22320">
            <a:solidFill>
              <a:srgbClr val="00008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</p:cxnSp>
      <p:sp>
        <p:nvSpPr>
          <p:cNvPr id="120" name=""/>
          <p:cNvSpPr/>
          <p:nvPr/>
        </p:nvSpPr>
        <p:spPr>
          <a:xfrm>
            <a:off x="468360" y="285264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f436b"/>
                </a:solidFill>
                <a:latin typeface="Stencil"/>
              </a:rPr>
              <a:t>Back-en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"/>
          <p:cNvSpPr/>
          <p:nvPr/>
        </p:nvSpPr>
        <p:spPr>
          <a:xfrm>
            <a:off x="2340000" y="285264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f436b"/>
                </a:solidFill>
                <a:latin typeface="Stencil"/>
              </a:rPr>
              <a:t>Middle-war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"/>
          <p:cNvSpPr/>
          <p:nvPr/>
        </p:nvSpPr>
        <p:spPr>
          <a:xfrm>
            <a:off x="7164360" y="2924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f436b"/>
                </a:solidFill>
                <a:latin typeface="Stencil"/>
              </a:rPr>
              <a:t>Front-en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Thanks for your time…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"/>
          <p:cNvSpPr/>
          <p:nvPr/>
        </p:nvSpPr>
        <p:spPr>
          <a:xfrm>
            <a:off x="611280" y="2565360"/>
            <a:ext cx="7561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Stencil"/>
              </a:rPr>
              <a:t>http://imhotep.gyeyoung.co.kr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"/>
          <p:cNvSpPr/>
          <p:nvPr/>
        </p:nvSpPr>
        <p:spPr>
          <a:xfrm>
            <a:off x="611280" y="3500280"/>
            <a:ext cx="7885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Stencil"/>
              </a:rPr>
              <a:t>http://kldp.net/projects/imhotep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About SVG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"/>
          <p:cNvSpPr/>
          <p:nvPr/>
        </p:nvSpPr>
        <p:spPr>
          <a:xfrm>
            <a:off x="755640" y="1557360"/>
            <a:ext cx="7705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         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Scalable Vector Graphics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         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XML Graphics for Web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         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2D Graphics in XML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Industry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         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GIS and Mapping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         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Web Application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         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Mobile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SVG Viewer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971640" y="1197000"/>
            <a:ext cx="7353360" cy="53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SVG Editor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900000" y="1268280"/>
            <a:ext cx="7353360" cy="53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SVG Modeler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900000" y="1268280"/>
            <a:ext cx="7353360" cy="53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SVG Converter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971640" y="1268280"/>
            <a:ext cx="7353360" cy="53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Libraries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684360" y="1773360"/>
            <a:ext cx="7559640" cy="3960720"/>
            <a:chOff x="684360" y="1773360"/>
            <a:chExt cx="7559640" cy="3960720"/>
          </a:xfrm>
        </p:grpSpPr>
        <p:sp>
          <p:nvSpPr>
            <p:cNvPr id="77" name=""/>
            <p:cNvSpPr/>
            <p:nvPr/>
          </p:nvSpPr>
          <p:spPr>
            <a:xfrm>
              <a:off x="6407280" y="4703760"/>
              <a:ext cx="863640" cy="3603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Menu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4360" y="5302080"/>
              <a:ext cx="1587240" cy="3970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Ycadv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372360" y="5302080"/>
              <a:ext cx="796680" cy="4320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JGoodies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411280" y="5302080"/>
              <a:ext cx="2737080" cy="3970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Batik 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292720" y="5302080"/>
              <a:ext cx="934920" cy="3970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NetBeans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276720" y="4703760"/>
              <a:ext cx="934920" cy="396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Canvas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348000" y="3328920"/>
              <a:ext cx="1511280" cy="5749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Layer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348000" y="4105440"/>
              <a:ext cx="4896000" cy="396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Editor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364000" y="4703760"/>
              <a:ext cx="935280" cy="396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Source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319640" y="4703760"/>
              <a:ext cx="934920" cy="396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Preview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84360" y="2730600"/>
              <a:ext cx="2592360" cy="39672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SVG Converter (Consol)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84360" y="3357720"/>
              <a:ext cx="2519280" cy="1836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Transcoder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419640" y="2730600"/>
              <a:ext cx="4752720" cy="39672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SVG Editor (GUI)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84360" y="1773360"/>
              <a:ext cx="7488000" cy="75708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Imhotep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380360" y="4703760"/>
              <a:ext cx="863640" cy="9572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Model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Undo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Tool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003640" y="3328920"/>
              <a:ext cx="1729080" cy="5749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Dom Tree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877080" y="3328920"/>
              <a:ext cx="1366920" cy="5749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Properties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333360"/>
            <a:ext cx="73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Architecture - Mod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476360" y="1341360"/>
            <a:ext cx="5667480" cy="46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"/>
          <p:cNvSpPr/>
          <p:nvPr/>
        </p:nvSpPr>
        <p:spPr>
          <a:xfrm>
            <a:off x="395280" y="333360"/>
            <a:ext cx="756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Architecture - View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187280" y="1197000"/>
            <a:ext cx="67438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李光植</cp:lastModifiedBy>
  <dcterms:modified xsi:type="dcterms:W3CDTF">2005-02-04T03:05:47Z</dcterms:modified>
  <cp:revision>9</cp:revision>
  <dc:subject/>
  <dc:title>PowerPoint Presentation</dc:title>
</cp:coreProperties>
</file>